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13A-BA02-48A3-84DF-2F401409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07D-18BF-4CDF-A041-E8E608F8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D76-CD21-4F7C-A410-2ED8E3D9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A81-B202-4F6F-A839-978B31B0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F16-F103-4DEE-9660-00D0E403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03C-82FB-4E2B-8894-1766D7DC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A7F-4F66-4E18-9FF4-2056D464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F7A-777A-456B-A7DB-82F24C4B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1E3-06CB-4BAB-B832-0D8AF1B1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3AB-1642-480D-A328-CBC994A2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A41-118F-4AF5-8F6B-6B6C68B1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B20-97E1-470C-A064-D9B0985D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4C29-43B9-4C85-8152-F5B7484C00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Harrington"/>
                <a:ea typeface="Calibri"/>
              </a:rPr>
              <a:t>VABILO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Zabava, smeh in razveseljevanje bližnjih v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jo življenjsko sr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Življenje je lovljenje ravnotežja med odgovornostmi, delom, po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itkom in zabav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Vse ima svoje mesto v velikem zemljevidu življenja. Zato se je treba nagraditi s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som za zabav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Ta te napolni z energijo, ki jo potrebuješ, da se sr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 lahko obnavlja.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Zato te prisr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no vabim, da se poveseliš z mano - ob mojem prihajajo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em 40. rojstnem dnevu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 </a:t>
            </a:r>
            <a:br>
              <a:rPr sz="1800"/>
            </a:b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dne 23. oktobra 2014 ob 14.10 minut.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Se dobimo na parkiriš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u za osnovnošolsko šolo in skupaj odidemo v neznano.</a:t>
            </a:r>
            <a:br>
              <a:rPr sz="1800"/>
            </a:br>
            <a:r>
              <a:rPr b="1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 </a:t>
            </a:r>
            <a:br>
              <a:rPr sz="1800"/>
            </a:br>
            <a:r>
              <a:rPr b="1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Melita Žlajpa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dcterms:modified xsi:type="dcterms:W3CDTF">2014-10-13T09:35:48Z</dcterms:modified>
  <cp:revision>27</cp:revision>
  <dc:subject/>
  <dc:title>TITLE</dc:title>
</cp:coreProperties>
</file>